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C449-5F20-4F89-B000-63F869A11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9049-BCDD-4AAD-9F64-E04ED4896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F3EC-B697-4F57-A7BA-74FC6C61B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39CB-A776-4D17-A3D4-815B6CA18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C592-3C2D-4BB9-8183-3BF2C1631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BA41-E604-4FC6-B859-4EADD7D26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F690-8D13-4D73-B0A4-94A4C0AA9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1754-3F43-4FFD-B16E-369D0787E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4AF9-631F-430C-BD74-ED3451DC2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E5A3-7AB7-4AC6-B40B-B96E425DF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10A8-2743-4268-B602-170D6CA7A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49B8-ACBB-465D-A768-2030503D6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5DFD1-F9CC-4883-89C3-B19C0DC74B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/C++ Tuto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on 9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heritance &amp; Polymorph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onio Maior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il 9, 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tion? POLYMORPH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word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r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 function is declared a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irtu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base class,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ointer or refer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the base class type will always call the child’s version of that function IF it has been overrid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owerful tool is known a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lymorph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rtual Function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Anim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Sleep() { printf("Sleeping!\n")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void Call()  { printf("Call!\n")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Cat : public Anim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Call()  { printf("Meow!\n")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Dog : public Anim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Call() { printf("Woof!\n")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3720600" y="2803680"/>
            <a:ext cx="4699440" cy="627840"/>
            <a:chOff x="3720600" y="2803680"/>
            <a:chExt cx="4699440" cy="627840"/>
          </a:xfrm>
        </p:grpSpPr>
        <p:sp>
          <p:nvSpPr>
            <p:cNvPr id="79" name=""/>
            <p:cNvSpPr/>
            <p:nvPr/>
          </p:nvSpPr>
          <p:spPr>
            <a:xfrm>
              <a:off x="5055840" y="2971800"/>
              <a:ext cx="33642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is is a virtual fun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 flipV="1">
              <a:off x="3720600" y="2803680"/>
              <a:ext cx="1319400" cy="39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3897360" y="3603240"/>
            <a:ext cx="5019840" cy="1670400"/>
            <a:chOff x="3897360" y="3603240"/>
            <a:chExt cx="5019840" cy="1670400"/>
          </a:xfrm>
        </p:grpSpPr>
        <p:sp>
          <p:nvSpPr>
            <p:cNvPr id="82" name=""/>
            <p:cNvSpPr/>
            <p:nvPr/>
          </p:nvSpPr>
          <p:spPr>
            <a:xfrm>
              <a:off x="6330240" y="4114800"/>
              <a:ext cx="2586960" cy="82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xactly the sam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s bef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3897360" y="4729320"/>
              <a:ext cx="2419200" cy="54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 flipV="1">
              <a:off x="3906360" y="3603240"/>
              <a:ext cx="2413080" cy="73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inue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main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nimal* pAnimal1 = new Anima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Animal1-&gt;Call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Animal1-&gt;Sleep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nimal* pAnimal2 = new Ca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Animal2-&gt;Call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Animal2-&gt;Sleep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nimal* pAnimal3 = new Dog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Animal3-&gt;Call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Animal3-&gt;Sleep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lete pAnimal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lete pAnimal2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lete pAnimal3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715000" y="3429000"/>
            <a:ext cx="2666880" cy="302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eep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ow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eep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of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eep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on polymorph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ymorphism means “change into many form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 is to write your code using base type references/pointers and not care about the actual child typ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used properly, allows for beautiful, simple code that’s easy to maint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rtual Destru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 child class has a destructor, i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verrid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base class destru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an cause huge memory leaks since base class destructor doesn’t get call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: declare base class destructor a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r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actual exampl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new polling, we use a base clas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Conne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represent any type of connection between HO and P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virtual function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nnect(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sconnect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ld classes a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asConne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DirectConne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implemen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nnect(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sconnect(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ir own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e class CConn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CConn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Connection() {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irtual ~CConnection() {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Used to connect from host to client ma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irtual bool Connect() { return false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Used to disconnect from client machin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irtual bool Disconnect() { return false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ild class CRasConn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CRasConnection : public CConn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irtual bool Connect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asDial(...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irtual bool Disconnect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asHangup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ild class CDirectConn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CDirectConnection : public CConn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irtual bool Connect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irtual bool Disconnect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 CPollingStoreS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lass CPollingStoreSe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Connection* m_pConnectio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PollingStoreSession(bool bUseRasConnec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bUseRasConnec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_pConnection = new CRasConnectio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_pConnection = new CDirectConnectio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~CPollingStoreSession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lete m_pConnectio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oid PollStore(); // Defined later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heritance in O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have seen how OOP promote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ncapsul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roug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ccess spec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extremely important part of OOP is the ability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rou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lasses into logical hierarchies – this is done throug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heri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eat and potato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CPollingStoreSession::PollStore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Connect to st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_pConnection-&gt;Connec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Send and receive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Disconnect from st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_pConnection-&gt;Disconnec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ice that we don’t care about the type of conn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to add another connection typ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in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/Super/Parent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ld/Sub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hild clas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riv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a parent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hild class is said to have an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s-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lationship with its parent; exampl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Base: Color, Children: Blue and Re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Blu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s 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lor, and Re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s 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from a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as-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hip: a clas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ntai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other class 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heritance in C+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 class is declared as any normal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ld class declared as follow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 Child : public Base { … 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ld can access anything in parent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rotec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ctions, but no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riv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word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tected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like private outside the class, but public for child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heritanc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we can hav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ass Do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ass C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both of which are animals, and thu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r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ass Ani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ass Anim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ould contain methods and properties common to both cats and dogs like Sleep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mon methods need to b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pecializ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ubclasse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ike Call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++ Inheritanc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Anim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Sleep() { printf("Sleeping!\n")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Call()  { printf("Call!\n")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Cat : public Anim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Call()  { printf("Meow!\n")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Dog : public Anim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Call() { printf("Woof!\n")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2438280" y="1219320"/>
            <a:ext cx="3108600" cy="459720"/>
            <a:chOff x="2438280" y="1219320"/>
            <a:chExt cx="3108600" cy="459720"/>
          </a:xfrm>
        </p:grpSpPr>
        <p:sp>
          <p:nvSpPr>
            <p:cNvPr id="54" name=""/>
            <p:cNvSpPr/>
            <p:nvPr/>
          </p:nvSpPr>
          <p:spPr>
            <a:xfrm>
              <a:off x="3894120" y="1219320"/>
              <a:ext cx="165276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ase cla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2438280" y="144792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4028760" y="3125880"/>
            <a:ext cx="4147560" cy="825480"/>
            <a:chOff x="4028760" y="3125880"/>
            <a:chExt cx="4147560" cy="825480"/>
          </a:xfrm>
        </p:grpSpPr>
        <p:sp>
          <p:nvSpPr>
            <p:cNvPr id="57" name=""/>
            <p:cNvSpPr/>
            <p:nvPr/>
          </p:nvSpPr>
          <p:spPr>
            <a:xfrm>
              <a:off x="5098320" y="3125880"/>
              <a:ext cx="3078000" cy="82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hild cla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inherits from Animal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4028760" y="350676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2882880" y="4572000"/>
            <a:ext cx="5509800" cy="1371600"/>
            <a:chOff x="2882880" y="4572000"/>
            <a:chExt cx="5509800" cy="1371600"/>
          </a:xfrm>
        </p:grpSpPr>
        <p:sp>
          <p:nvSpPr>
            <p:cNvPr id="60" name=""/>
            <p:cNvSpPr/>
            <p:nvPr/>
          </p:nvSpPr>
          <p:spPr>
            <a:xfrm>
              <a:off x="5382000" y="4952880"/>
              <a:ext cx="3010680" cy="82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Overrid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the fun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 the base cla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2882880" y="5345280"/>
              <a:ext cx="2473200" cy="59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 flipV="1">
              <a:off x="2895120" y="4572000"/>
              <a:ext cx="2481480" cy="78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inue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main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nimal anima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nimal.Call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nimal.Sleep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at ca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at.Call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at.Sleep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g dog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g.Call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g.Sleep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715000" y="3429000"/>
            <a:ext cx="2666880" cy="302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eep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ow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eep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of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eep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riding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child class declares and implements a member function that exists in the parent, this is calle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unction overrid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ful tool, but can produce strange results when us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inters or references to base class typ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on the exampl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main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nimal* pAnimal1 = new Anima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Animal1-&gt;Call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Animal1-&gt;Sleep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nimal* pAnimal2 = new Ca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Animal2-&gt;Call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Animal2-&gt;Sleep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nimal* pAnimal3 = new Dog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Animal3-&gt;Call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Animal3-&gt;Sleep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lete pAnimal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lete pAnimal2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lete pAnimal3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715000" y="3429000"/>
            <a:ext cx="2666880" cy="302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eep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eep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eep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2976120" y="2133720"/>
            <a:ext cx="5644440" cy="909360"/>
            <a:chOff x="2976120" y="2133720"/>
            <a:chExt cx="5644440" cy="909360"/>
          </a:xfrm>
        </p:grpSpPr>
        <p:sp>
          <p:nvSpPr>
            <p:cNvPr id="72" name=""/>
            <p:cNvSpPr/>
            <p:nvPr/>
          </p:nvSpPr>
          <p:spPr>
            <a:xfrm>
              <a:off x="5307840" y="2133720"/>
              <a:ext cx="3312720" cy="82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erfectly valid becau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 Cat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is-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Animal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2976120" y="2581200"/>
              <a:ext cx="2311560" cy="46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9T21:25:37Z</dcterms:created>
  <dc:creator>Antonio Maiorano</dc:creator>
  <dc:description/>
  <dc:language>en-US</dc:language>
  <cp:lastModifiedBy>Tony</cp:lastModifiedBy>
  <dcterms:modified xsi:type="dcterms:W3CDTF">2003-08-23T18:10:20Z</dcterms:modified>
  <cp:revision>26</cp:revision>
  <dc:subject/>
  <dc:title>C/C++ Tutorial</dc:title>
</cp:coreProperties>
</file>